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F0AB5-B832-4E9D-BEDE-81BC7E53F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897C3-0266-4A99-9073-E7B3222AF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9A8DE-EA85-44A1-BF30-8615FBAB5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E93B0-0A3F-488F-8AF4-FF83C93BD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1B5AA-D660-443A-AF22-7871B04E0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259ED-0BDE-42B8-A6CC-DBA59171F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B08BD-B84B-4AC1-9C41-3026AA5F8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6C67E-8F7A-43E2-AAC8-70AAF1EB8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5F465-A8A8-45E1-8F1C-226442BF2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C7C9B-DE40-4647-A197-F61C4B671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FEB46-F450-4B30-A627-88AB4770F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8AA93-5F02-4E68-9C91-3109579ED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584B8-C90A-4D41-A52D-D8025BD863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458200" y="-3443400"/>
            <a:ext cx="7632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47920" y="5866920"/>
            <a:ext cx="6324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Arial"/>
              </a:rPr>
              <a:t>Concept Map :The Roots and Branches of Rock and Ro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286000" y="304920"/>
            <a:ext cx="4495680" cy="55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9T16:45:50Z</dcterms:created>
  <dc:creator>PACS</dc:creator>
  <dc:description/>
  <dc:language>en-US</dc:language>
  <cp:lastModifiedBy>PACS</cp:lastModifiedBy>
  <dcterms:modified xsi:type="dcterms:W3CDTF">2010-03-19T16:56:25Z</dcterms:modified>
  <cp:revision>2</cp:revision>
  <dc:subject/>
  <dc:title>Slide 1</dc:title>
</cp:coreProperties>
</file>